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BE9C-6F5B-437A-BAC1-FF436111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8033-735F-49F0-9E5A-986043F2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B667-76B7-4719-8EEC-AF7156E6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3C00-A7CC-4624-B075-0BBEDE9D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F37C-A4BF-4E74-9D9C-6FB322E7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E85-8E33-42A9-AF7C-9A2F4F4F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D7DA-A6BA-413F-9C4E-9DF995E8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901A-B0FC-4905-BCED-AD5ECD18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14ED-E369-4CE2-B3D5-935DD477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4533-3646-4E45-8893-6AE9A01E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0648-65EA-4BFB-8686-23125F1D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2212-CFF1-45BA-B4D8-F3BA8400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ath Ed pg17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8F8E-6A72-4710-8906-4B36BE0FAAD0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lickr.com/photos/earthsongaustralia/3987819431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earth from space by EarthSong Austral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357120"/>
            <a:ext cx="8184960" cy="5286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4597a0"/>
                </a:solidFill>
                <a:latin typeface="Arial"/>
              </a:rPr>
              <a:t>CEOM Sustainable Office Strategy</a:t>
            </a:r>
            <a:br>
              <a:rPr sz="4000"/>
            </a:br>
            <a:r>
              <a:rPr b="0" lang="en-AU" sz="4000" spc="-1" strike="noStrike">
                <a:solidFill>
                  <a:srgbClr val="4597a0"/>
                </a:solidFill>
                <a:latin typeface="Arial"/>
              </a:rPr>
              <a:t>2010-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224b5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b050"/>
                </a:solidFill>
                <a:latin typeface="Arial"/>
              </a:rPr>
              <a:t>Sept 09-Mar 10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riting draft Policy,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b050"/>
                </a:solidFill>
                <a:latin typeface="Arial"/>
              </a:rPr>
              <a:t>Mar- May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sultation with key manage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xecutive team,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b050"/>
                </a:solidFill>
                <a:latin typeface="Arial"/>
              </a:rPr>
              <a:t>July 2010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POC brie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b050"/>
                </a:solidFill>
                <a:latin typeface="Arial"/>
              </a:rPr>
              <a:t>June – August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mpletion of Guidel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sultation with staff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b050"/>
                </a:solidFill>
                <a:latin typeface="Arial"/>
              </a:rPr>
              <a:t>September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eedback from staff groups to G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b050"/>
                </a:solidFill>
                <a:latin typeface="Arial"/>
              </a:rPr>
              <a:t>October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atification by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224b50"/>
                </a:solidFill>
                <a:latin typeface="Arial"/>
              </a:rPr>
              <a:t>Consultation with staff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reen Office committee reps on most staff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esentation to your staff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iscussion of your pri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ecide which priorities you will focus on as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corporate into Work Plan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indefinite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9" dur="indefinite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0" dur="indefinite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mph" presetID="5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indefinite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indefinite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mph" presetID="5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indefinite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9" dur="indefinite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0" dur="indefinite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mph" presetID="5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" dur="indefinite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4" dur="indefinite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5" dur="indefinite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mph" presetID="5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" dur="indefinite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9" dur="indefinite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0" dur="indefinite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224b50"/>
                </a:solidFill>
                <a:latin typeface="Arial"/>
              </a:rPr>
              <a:t>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build a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culture of sustainability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ich reflects our responsibility to care for God’s cre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develop and promote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behaviours, practices and policies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at contribute to the development of a sustainable future for us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224b50"/>
                </a:solidFill>
                <a:latin typeface="Arial"/>
              </a:rPr>
              <a:t>Culture of Sustain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at staff become </a:t>
            </a:r>
            <a:r>
              <a:rPr b="0" lang="en-AU" sz="1800" spc="-1" strike="noStrike">
                <a:solidFill>
                  <a:srgbClr val="c00000"/>
                </a:solidFill>
                <a:latin typeface="Arial"/>
              </a:rPr>
              <a:t>more aware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f the importance of sustainability and ways to improve sustainability in the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at a </a:t>
            </a:r>
            <a:r>
              <a:rPr b="0" lang="en-AU" sz="1800" spc="-1" strike="noStrike">
                <a:solidFill>
                  <a:srgbClr val="c00000"/>
                </a:solidFill>
                <a:latin typeface="Arial"/>
              </a:rPr>
              <a:t>positive environment for change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s created and maintain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at staff demonstrate an </a:t>
            </a:r>
            <a:r>
              <a:rPr b="0" lang="en-AU" sz="1800" spc="-1" strike="noStrike">
                <a:solidFill>
                  <a:srgbClr val="c00000"/>
                </a:solidFill>
                <a:latin typeface="Arial"/>
              </a:rPr>
              <a:t>increased commitment to sustainability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the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at a Christian ecological spirituality be supported </a:t>
            </a:r>
            <a:r>
              <a:rPr b="0" lang="en-AU" sz="1800" spc="-1" strike="noStrike">
                <a:solidFill>
                  <a:srgbClr val="c00000"/>
                </a:solidFill>
                <a:latin typeface="Arial"/>
              </a:rPr>
              <a:t>through opportunities for prayer for creation and a sustainable future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lang="en-AU" sz="1800" spc="-1" strike="noStrike">
                <a:solidFill>
                  <a:srgbClr val="c00000"/>
                </a:solidFill>
                <a:latin typeface="Arial"/>
              </a:rPr>
              <a:t>sustainability goals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e included in the next </a:t>
            </a:r>
            <a:r>
              <a:rPr b="0" lang="en-AU" sz="1800" spc="-1" strike="noStrike">
                <a:solidFill>
                  <a:srgbClr val="c00000"/>
                </a:solidFill>
                <a:latin typeface="Arial"/>
              </a:rPr>
              <a:t>Archdiocesan Strategy Plan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d CEOM Ac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Sept - Our Lady of the Rosary Kyneton Tree Planting 1"/>
          <p:cNvPicPr/>
          <p:nvPr/>
        </p:nvPicPr>
        <p:blipFill>
          <a:blip r:embed="rId1"/>
          <a:stretch/>
        </p:blipFill>
        <p:spPr>
          <a:xfrm>
            <a:off x="7072200" y="5197320"/>
            <a:ext cx="1855800" cy="1392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224b50"/>
                </a:solidFill>
                <a:latin typeface="Arial"/>
              </a:rPr>
              <a:t>Behaviours, Practices and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at a Green Office </a:t>
            </a:r>
            <a:r>
              <a:rPr b="0" lang="en-AU" sz="2000" spc="-1" strike="noStrike">
                <a:solidFill>
                  <a:srgbClr val="c00000"/>
                </a:solidFill>
                <a:latin typeface="Arial"/>
              </a:rPr>
              <a:t>policy, procedures and strategy plan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e developed, communicated to staff, implemented, monitored and reported on to staf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at all staff demonstrate </a:t>
            </a:r>
            <a:r>
              <a:rPr b="0" lang="en-AU" sz="2000" spc="-1" strike="noStrike">
                <a:solidFill>
                  <a:srgbClr val="c00000"/>
                </a:solidFill>
                <a:latin typeface="Arial"/>
              </a:rPr>
              <a:t>behaviours which reduce energy and water consum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at all CEOM practices reflect a </a:t>
            </a:r>
            <a:r>
              <a:rPr b="0" lang="en-AU" sz="2000" spc="-1" strike="noStrike">
                <a:solidFill>
                  <a:srgbClr val="c00000"/>
                </a:solidFill>
                <a:latin typeface="Arial"/>
              </a:rPr>
              <a:t>commitment to the principle of Refuse/ Reduce/Re-use/ Re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at a </a:t>
            </a:r>
            <a:r>
              <a:rPr b="0" lang="en-AU" sz="2000" spc="-1" strike="noStrike">
                <a:solidFill>
                  <a:srgbClr val="c00000"/>
                </a:solidFill>
                <a:latin typeface="Arial"/>
              </a:rPr>
              <a:t>system of measurement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s developed that enables monitoring and evaluation of resource 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" nodeType="after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224b50"/>
                </a:solidFill>
                <a:latin typeface="Arial"/>
              </a:rPr>
              <a:t>Behaviours, Practices and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at the CEOM increase its use of </a:t>
            </a:r>
            <a:r>
              <a:rPr b="0" lang="en-AU" sz="2000" spc="-1" strike="noStrike">
                <a:solidFill>
                  <a:srgbClr val="c00000"/>
                </a:solidFill>
                <a:latin typeface="Arial"/>
              </a:rPr>
              <a:t>sustainable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at CEOM workspaces are </a:t>
            </a:r>
            <a:r>
              <a:rPr b="0" lang="en-AU" sz="2000" spc="-1" strike="noStrike">
                <a:solidFill>
                  <a:srgbClr val="c00000"/>
                </a:solidFill>
                <a:latin typeface="Arial"/>
              </a:rPr>
              <a:t>designed to optimise sustainability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ile ensuring an efficient and comfortabl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s required, that the CEOM </a:t>
            </a:r>
            <a:r>
              <a:rPr b="0" lang="en-AU" sz="2000" spc="-1" strike="noStrike">
                <a:solidFill>
                  <a:srgbClr val="c00000"/>
                </a:solidFill>
                <a:latin typeface="Arial"/>
              </a:rPr>
              <a:t>work with the Archdiocese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f Melbourne to select new premises which </a:t>
            </a:r>
            <a:r>
              <a:rPr b="0" lang="en-AU" sz="2000" spc="-1" strike="noStrike">
                <a:solidFill>
                  <a:srgbClr val="c00000"/>
                </a:solidFill>
                <a:latin typeface="Arial"/>
              </a:rPr>
              <a:t>optimise sustainability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while ensuring an efficient and comfortabl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ept - Healesville - St Brigid's PS- Thomas and Amelia  with permission to use"/>
          <p:cNvPicPr/>
          <p:nvPr/>
        </p:nvPicPr>
        <p:blipFill>
          <a:blip r:embed="rId1"/>
          <a:stretch/>
        </p:blipFill>
        <p:spPr>
          <a:xfrm>
            <a:off x="4643280" y="1214280"/>
            <a:ext cx="414360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4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224b50"/>
                </a:solidFill>
                <a:latin typeface="Arial"/>
              </a:rPr>
              <a:t>Targ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ture: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 least one sustainability goal be included in the Archdiocesan Strategy Plan and the CEOM Action Plan for the next triennium/quadren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Energy and Wat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duce energy use by 10% each year – 30% over 3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duce water use by 20% over 3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duce paper waste by 15–20% each year – 50% by the end of 20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ainable Wast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duce landfill waste by 15–20% each year – 50% by the end of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ll print publications to be printed on environmentally sustainable paper (recycled or from sustainably managed forestry) with sustainable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rcRect l="0" t="0" r="0" b="4618"/>
          <a:stretch/>
        </p:blipFill>
        <p:spPr>
          <a:xfrm>
            <a:off x="6929280" y="2286000"/>
            <a:ext cx="201636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224b50"/>
                </a:solidFill>
                <a:latin typeface="Arial"/>
              </a:rPr>
              <a:t>Tar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ainable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duce use of pool c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crease fuel-efficiency of pool ca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crease use of public transport to and from work especi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224b50"/>
                </a:solidFill>
                <a:latin typeface="Arial"/>
              </a:rPr>
              <a:t>Strategies / Responsi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dividual Strategies are identified for each goal and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aff groups are linked to each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tention is that staff groups would take on the strategy and incorporate it into their work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oice of strategies to focus on initially, making at least one a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50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224b50"/>
                </a:solidFill>
                <a:latin typeface="Arial"/>
              </a:rPr>
              <a:t>Achievements -Common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4000" spc="-1" strike="noStrike">
                <a:solidFill>
                  <a:srgbClr val="224b5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uch has already been done by individuals and Staff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ossible common Strategy to start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duce paper use by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fford to change to a 100% recycled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23:29:16Z</dcterms:created>
  <dc:creator>grosemeyer</dc:creator>
  <dc:description/>
  <dc:language>en-US</dc:language>
  <cp:lastModifiedBy>cgrinsted</cp:lastModifiedBy>
  <dcterms:modified xsi:type="dcterms:W3CDTF">2011-09-02T03:42:53Z</dcterms:modified>
  <cp:revision>28</cp:revision>
  <dc:subject/>
  <dc:title>CEOM Green Office Policy</dc:title>
</cp:coreProperties>
</file>